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7FA-CEBC-40FF-B4E2-3B498442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A8C-A074-424A-9B0B-57C070BB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235-C687-4161-ABBC-586BB610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97A-BAEC-4F53-BF8D-FB6944F5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FDC-88C0-4C4D-9EF8-AE151C08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8FA-EB0C-4083-BF73-456F5675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13B-525F-48B7-B31A-E4D04A76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B0B-54DE-4BEC-851A-272EF80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9EC-6672-42BF-A307-5E70BD6B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71C-2F07-4860-AAC0-6019101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369-DE2C-4297-B423-8E92B36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E06-F00C-4C02-9FAB-9F46618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058-F6BE-41A5-96B7-8C8789981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 RUSSIA’S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iel Drisc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e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where the red army (communists) defended  the Bolshevik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nti Bolshevik authorities 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 </dc:creator>
  <dc:description/>
  <dc:language>en-US</dc:language>
  <cp:lastModifiedBy> </cp:lastModifiedBy>
  <dcterms:modified xsi:type="dcterms:W3CDTF">2010-12-15T14:23:33Z</dcterms:modified>
  <cp:revision>2</cp:revision>
  <dc:subject/>
  <dc:title>MOTHER RUSSIA’S PAST</dc:title>
</cp:coreProperties>
</file>